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5A0-F796-4CE0-905C-D4738E2B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140-B541-43EF-B7F1-41602435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851-D00B-425C-AB19-A45A707C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968-F3CD-4A2A-AC80-D7C26644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10F-FBCE-4899-8581-E7CE770E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096-4C39-47A6-A1B4-5017C6A4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1F2A-1140-4687-9F47-902B372D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4DE-7FE6-4165-B8F5-D62F1135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698-50AB-422C-965C-82893482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5F9-8786-4BA4-B619-1F21BD1E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813-C0ED-468A-A1DD-6DD78024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9EA-3CAD-4EC2-A8FF-9105D631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89A1-90BD-465C-AD16-9DA68C72B9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idgit.det.nsw.edu.a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bridgit softw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547380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tchie Duncan    Emmaville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 Belford         CAP Consul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37160" y="3284640"/>
            <a:ext cx="73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Instructions for download and se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197000"/>
            <a:ext cx="7993080" cy="3311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Who has control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creates the conference has control of the conference- they should share their deskto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who creates the conference must save the work to their desktop and share the file with the group by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413000"/>
            <a:ext cx="8569080" cy="4537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16000" y="836640"/>
            <a:ext cx="6912000" cy="27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on't forget 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sconnect after 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ference has finish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9720" y="5157720"/>
            <a:ext cx="91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the options under the menu items to disconn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88640"/>
            <a:ext cx="8218440" cy="63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t up BRIDGIT you need to download the bridgit.exe file from the websit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ridgit.det.nsw.edu.a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n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w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n fr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40544" b="61033"/>
          <a:stretch/>
        </p:blipFill>
        <p:spPr>
          <a:xfrm>
            <a:off x="1187280" y="1844640"/>
            <a:ext cx="6624720" cy="3255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4240" y="5589720"/>
            <a:ext cx="821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n only be used inside the DET intran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the file to your desk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23367" b="29369"/>
          <a:stretch/>
        </p:blipFill>
        <p:spPr>
          <a:xfrm>
            <a:off x="755640" y="1068480"/>
            <a:ext cx="7704000" cy="5335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56360" y="3645000"/>
            <a:ext cx="433440" cy="1081080"/>
          </a:xfrm>
          <a:prstGeom prst="downArrow">
            <a:avLst>
              <a:gd name="adj1" fmla="val 50000"/>
              <a:gd name="adj2" fmla="val 623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24000" y="3141720"/>
            <a:ext cx="647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IDGIT icon will appear on your deskt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199280" cy="539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00360" y="3284640"/>
            <a:ext cx="2735280" cy="358560"/>
          </a:xfrm>
          <a:prstGeom prst="leftArrow">
            <a:avLst>
              <a:gd name="adj1" fmla="val 50000"/>
              <a:gd name="adj2" fmla="val 1907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2409840" cy="185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0" y="2133720"/>
            <a:ext cx="2521080" cy="230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141720"/>
            <a:ext cx="8496000" cy="35272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ing a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o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conference you will need to know the name of the conference and the password (if one is 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Arial"/>
              </a:rPr>
              <a:t>Creating  a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07664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you want to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  conference you will need to name the conference and the password  and transmit to everyone in the conference before you actually start the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333360"/>
            <a:ext cx="8496000" cy="2519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ff"/>
                </a:solidFill>
                <a:uFillTx/>
                <a:latin typeface="Arial"/>
              </a:rPr>
              <a:t>Sound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using a headphone/ microphone set you need to enable the micro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using videoconferencing or telephone confections then DO NOT enable this option or the feedback will be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64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icon to start the program and follow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878000">
            <a:off x="6156000" y="3429000"/>
            <a:ext cx="431640" cy="1440000"/>
          </a:xfrm>
          <a:prstGeom prst="downArrow">
            <a:avLst>
              <a:gd name="adj1" fmla="val 50000"/>
              <a:gd name="adj2" fmla="val 834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263700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or create a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-603360"/>
            <a:ext cx="9144000" cy="6951600"/>
            <a:chOff x="0" y="-603360"/>
            <a:chExt cx="9144000" cy="6951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0" y="-603360"/>
              <a:ext cx="9144000" cy="69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 txBox="1"/>
            <p:nvPr/>
          </p:nvSpPr>
          <p:spPr>
            <a:xfrm>
              <a:off x="0" y="-603360"/>
              <a:ext cx="9144000" cy="695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20948400">
            <a:off x="5435640" y="2205000"/>
            <a:ext cx="1728720" cy="287280"/>
          </a:xfrm>
          <a:prstGeom prst="leftArrow">
            <a:avLst>
              <a:gd name="adj1" fmla="val 50000"/>
              <a:gd name="adj2" fmla="val 15043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2708280"/>
            <a:ext cx="1584360" cy="289080"/>
          </a:xfrm>
          <a:prstGeom prst="rightArrow">
            <a:avLst>
              <a:gd name="adj1" fmla="val 50000"/>
              <a:gd name="adj2" fmla="val 137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7971800">
            <a:off x="5914080" y="2686680"/>
            <a:ext cx="360360" cy="2880000"/>
          </a:xfrm>
          <a:prstGeom prst="upArrow">
            <a:avLst>
              <a:gd name="adj1" fmla="val 50000"/>
              <a:gd name="adj2" fmla="val 199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278136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Use a pass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93080" y="1989000"/>
            <a:ext cx="20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me your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65300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ser’s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0139000">
            <a:off x="2843280" y="4797000"/>
            <a:ext cx="1873080" cy="289080"/>
          </a:xfrm>
          <a:prstGeom prst="rightArrow">
            <a:avLst>
              <a:gd name="adj1" fmla="val 50000"/>
              <a:gd name="adj2" fmla="val 16198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37372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ess OK when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1052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ready to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1:31:46Z</dcterms:created>
  <dc:creator>Ritchie Duncan</dc:creator>
  <dc:description/>
  <dc:language>en-US</dc:language>
  <cp:lastModifiedBy>Sue Belford</cp:lastModifiedBy>
  <dcterms:modified xsi:type="dcterms:W3CDTF">2008-03-09T03:33:23Z</dcterms:modified>
  <cp:revision>17</cp:revision>
  <dc:subject/>
  <dc:title>Slide 1</dc:title>
</cp:coreProperties>
</file>